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93AA0-2D5E-48AB-815F-DC4AFD1EB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03062-4326-4675-94D4-A4D536FD71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BE1D5-E270-4898-BADD-67C4E7E876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687D2-8156-4198-A706-3A60900D1F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6E889-3463-47D4-8B55-DCBA34E655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2C61A-EB7C-48CB-A2E6-45127BD573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161645"/>
                </a:solidFill>
                <a:latin typeface="Arial"/>
              </a:rPr>
              <a:t>FUZIJA – dve zubne klice spojene duž gleđi. Broj zuba u vilici je sman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161645"/>
                </a:solidFill>
                <a:latin typeface="Arial"/>
              </a:rPr>
              <a:t>GEMINACIJA – Nepotpuna podela zubnog zametka. Dve zubne pulpe, jedan koren. Nema promena u broju z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161645"/>
                </a:solidFill>
                <a:latin typeface="Arial"/>
              </a:rPr>
              <a:t>KONKRESCENCIJA – Dve krune zuba spojene cementnim tkiv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86724-D575-4E7C-9B65-697C41A01A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17843-EC23-4EC2-A317-42639AA515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800" spc="-1" strike="noStrike">
              <a:solidFill>
                <a:srgbClr val="161645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2151F-DE26-4464-A205-FE4877F909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ko 300 gena je uključeno u morfogenezu zuba, uključujući MSX1, PAX9, AXIN2, EDA, SPRY2, TGFA, SPRY4, WNT10A, FGF3, FGF10, FGFR2 i BMP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311C2-C52F-4962-A940-E703345E72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16FC9-5D2E-4B93-A769-8CE3FE1E58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D8255-443E-45E0-8070-64BE9F80F9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B1C1-16BD-4D17-895B-1CB361E2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409B-BD1E-43E3-AA38-E2565F7C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2B6-61F0-431A-81A0-5A3D5235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054D-5F89-4931-9F7C-35BD3170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FCB7-2369-4C06-AB36-3A48DF5D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E18-F984-4EF8-A26C-8A5B910E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052-97F1-42C7-85C2-576449ED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0FB-FF3D-4946-9070-BFB55676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F87-E278-4D2A-8D8C-CC5E737C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F9C4-77A2-42A8-AC0A-54FA113F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5FE-4771-4BF7-B341-A892DE7F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9FB4-AA7A-4A60-AAB1-934EF0F9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92D2A-C55A-4897-890C-795F7425C1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3017880"/>
            <a:ext cx="971388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NEPRAVILNOSTI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RAZVITKA ZUBA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3964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83720" y="284328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00120" y="1655640"/>
            <a:ext cx="9717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DEČJ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Rectangle: Rounded Corners 1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02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2454120" y="1955880"/>
            <a:ext cx="1219320" cy="1003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219320" y="1814400"/>
            <a:ext cx="997884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rmAutofit/>
          </a:bodyPr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Idiopatske nepravilnosti u strukturi gleđi - MI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65160" indent="-371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br>
              <a:rPr sz="2200"/>
            </a:br>
            <a:r>
              <a:rPr b="1" lang="sr-Latn-R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sr-Latn-R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sr-Latn-R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965160" indent="-371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965160" indent="-371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406240" y="33480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NEPRAVILNOSTI </a:t>
            </a: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STRUKTURE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Z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UB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219320" y="1585800"/>
            <a:ext cx="51210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rmAutofit/>
          </a:bodyPr>
          <a:p>
            <a:pPr lvl="1" marL="965160" indent="-37152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965160" indent="-37152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965160" indent="-37152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br>
              <a:rPr sz="2200"/>
            </a:br>
            <a:r>
              <a:rPr b="1" lang="sr-Latn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r-Latn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r-Latn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965160" indent="-371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965160" indent="-371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1406240" y="33480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NEPRAVILNOSTI </a:t>
            </a: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STRUKTURE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Z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UB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219320" y="1814400"/>
            <a:ext cx="1008684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rmAutofit/>
          </a:bodyPr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Trebuchet MS"/>
              </a:rPr>
              <a:t>Nepravilnosti u strukturi dentin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65160" indent="-37152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i="1" lang="sr-Latn-RS" sz="2200" spc="-1" strike="noStrike">
                <a:solidFill>
                  <a:srgbClr val="ffffff"/>
                </a:solidFill>
                <a:latin typeface="Trebuchet MS"/>
              </a:rPr>
              <a:t>Genetski uzrokovan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965160" indent="-37152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i="1" lang="sr-Latn-RS" sz="2200" spc="-1" strike="noStrike">
                <a:solidFill>
                  <a:srgbClr val="ffffff"/>
                </a:solidFill>
                <a:latin typeface="Trebuchet MS"/>
              </a:rPr>
              <a:t>Lokalni i opšti faktori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844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Trebuchet MS"/>
              </a:rPr>
              <a:t>Nepravilnosti u strukturi cement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65160" indent="-37152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i="1" lang="sr-Latn-RS" sz="2200" spc="-1" strike="noStrike">
                <a:solidFill>
                  <a:srgbClr val="ffffff"/>
                </a:solidFill>
                <a:latin typeface="Trebuchet MS"/>
              </a:rPr>
              <a:t>Epidermolysis bulosa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844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965160" indent="-371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965160" indent="-37152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br>
              <a:rPr sz="2200"/>
            </a:br>
            <a:r>
              <a:rPr b="1" lang="sr-Latn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r-Latn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r-Latn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965160" indent="-371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965160" indent="-371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234800" y="2119320"/>
            <a:ext cx="57150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Trebuchet MS"/>
              </a:rPr>
              <a:t>Hipodonci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Trebuchet MS"/>
              </a:rPr>
              <a:t>Oligodonci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Trebuchet MS"/>
              </a:rPr>
              <a:t>Anodonci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Trebuchet MS"/>
              </a:rPr>
              <a:t>Hiperdonci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NEPRAVILNOSTI BROJA </a:t>
            </a: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Z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UB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NEPRAVILNOSTI </a:t>
            </a: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VELIČINE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Z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UB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1219320" y="2119320"/>
            <a:ext cx="46638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rmAutofit/>
          </a:bodyPr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Trebuchet MS"/>
              </a:rPr>
              <a:t>Mikrodonci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Trebuchet MS"/>
              </a:rPr>
              <a:t>Makrodonci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Trebuchet MS"/>
              </a:rPr>
              <a:t>Rizomegali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Trebuchet MS"/>
              </a:rPr>
              <a:t>Rizomikri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9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59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NEPRAVILNOSTI </a:t>
            </a: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OBLIKA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Z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UB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58"/>
          <p:cNvSpPr/>
          <p:nvPr/>
        </p:nvSpPr>
        <p:spPr>
          <a:xfrm>
            <a:off x="1920960" y="2347920"/>
            <a:ext cx="2209680" cy="500040"/>
          </a:xfrm>
          <a:prstGeom prst="roundRect">
            <a:avLst>
              <a:gd name="adj" fmla="val 50000"/>
            </a:avLst>
          </a:prstGeom>
          <a:solidFill>
            <a:srgbClr val="f9a12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1700" spc="-1" strike="noStrike">
                <a:solidFill>
                  <a:srgbClr val="000000"/>
                </a:solidFill>
                <a:latin typeface="Trebuchet MS"/>
              </a:rPr>
              <a:t>FUZIJA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AutoShape 58"/>
          <p:cNvSpPr/>
          <p:nvPr/>
        </p:nvSpPr>
        <p:spPr>
          <a:xfrm>
            <a:off x="1920960" y="3110040"/>
            <a:ext cx="2209680" cy="500040"/>
          </a:xfrm>
          <a:prstGeom prst="roundRect">
            <a:avLst>
              <a:gd name="adj" fmla="val 50000"/>
            </a:avLst>
          </a:prstGeom>
          <a:solidFill>
            <a:srgbClr val="f9a12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1700" spc="-1" strike="noStrike">
                <a:solidFill>
                  <a:srgbClr val="000000"/>
                </a:solidFill>
                <a:latin typeface="Trebuchet MS"/>
              </a:rPr>
              <a:t>GEMINACIJA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AutoShape 58"/>
          <p:cNvSpPr/>
          <p:nvPr/>
        </p:nvSpPr>
        <p:spPr>
          <a:xfrm>
            <a:off x="1996920" y="3871800"/>
            <a:ext cx="2210040" cy="500040"/>
          </a:xfrm>
          <a:prstGeom prst="roundRect">
            <a:avLst>
              <a:gd name="adj" fmla="val 50000"/>
            </a:avLst>
          </a:prstGeom>
          <a:solidFill>
            <a:srgbClr val="f9a12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1700" spc="-1" strike="noStrike">
                <a:solidFill>
                  <a:srgbClr val="000000"/>
                </a:solidFill>
                <a:latin typeface="Trebuchet MS"/>
              </a:rPr>
              <a:t>KONKRESCENCIJA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NEPRAVILNOSTI </a:t>
            </a: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OBLIKA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Z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UB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1219320" y="2119320"/>
            <a:ext cx="1028844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rmAutofit/>
          </a:bodyPr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Trebuchet MS"/>
              </a:rPr>
              <a:t>Zub u zubu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Trebuchet MS"/>
              </a:rPr>
              <a:t>Zub na zubu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Trebuchet MS"/>
              </a:rPr>
              <a:t>Taurodontiza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9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59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NEPRAVILNOSTI </a:t>
            </a: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POLOŽAJA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Z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UB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219320" y="2119320"/>
            <a:ext cx="1028844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rmAutofit/>
          </a:bodyPr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Trebuchet MS"/>
              </a:rPr>
              <a:t>Transpozici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Trebuchet MS"/>
              </a:rPr>
              <a:t>Rotaci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Trebuchet MS"/>
              </a:rPr>
              <a:t>Inklinaci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9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59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NEPRAVILNOSTI </a:t>
            </a: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STRUKTURE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Z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UB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1219320" y="2119320"/>
            <a:ext cx="1028844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rmAutofit/>
          </a:bodyPr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Trebuchet MS"/>
              </a:rPr>
              <a:t>Genetski uzrokovane nepravilnosti gleđ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59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59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-1812960" y="2500200"/>
            <a:ext cx="10287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i="1" lang="sr-Latn-RS" sz="3200" spc="-1" strike="noStrike">
                <a:solidFill>
                  <a:srgbClr val="ffffff"/>
                </a:solidFill>
                <a:latin typeface="Trebuchet MS"/>
              </a:rPr>
              <a:t>Amelogenesis imperfecta A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NEPRAVILNOSTI </a:t>
            </a: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STRUKTURE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Z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UB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1219320" y="2119320"/>
            <a:ext cx="1028844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rmAutofit/>
          </a:bodyPr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Trebuchet MS"/>
              </a:rPr>
              <a:t>Nepravilnosti gleđi uzrokovane opštim faktorim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9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59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59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1219320" y="1814400"/>
            <a:ext cx="1008684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rmAutofit/>
          </a:bodyPr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Trebuchet MS"/>
              </a:rPr>
              <a:t>Nepravilnosti gleđi uzrokovane lokalnim faktorim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65160" indent="-37152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br>
              <a:rPr sz="2200"/>
            </a:br>
            <a:r>
              <a:rPr b="1" lang="sr-Latn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r-Latn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r-Latn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965160" indent="-371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965160" indent="-371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6040" indent="-446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1406240" y="33480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NEPRAVILNOSTI </a:t>
            </a: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STRUKTURE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Z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UB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6:28:23Z</dcterms:modified>
  <cp:revision>619</cp:revision>
  <dc:subject/>
  <dc:title>RTG U DEČJOJ STOMATOLOGIJI</dc:title>
</cp:coreProperties>
</file>